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D0D-C576-487D-BA50-135C93C0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B4A-4143-4AEC-AFF2-99687F2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AD1-124C-446D-BDA5-A39C6E0B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3A6-5917-4D2C-AFA8-2A82A7E0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9C1-05AB-436B-BB39-5E69D806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B4E-5A53-41D9-968D-3A539A9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23C-D2AF-43EA-A2F5-1A60F7A3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8EA-BCDC-41AE-9885-D705BB3E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FA9-27F6-42F8-8670-A3544DD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7BC-CAB7-4D5B-B4E6-77753430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F27-3AC0-43A0-942A-81A8A5B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592-A454-4E7B-8821-F5E78B2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84C-B0E2-4CF4-B348-ECE9B9C2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0520" y="318960"/>
          <a:ext cx="7010280" cy="934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18960"/>
                    <a:ext cx="7010280" cy="9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44960" y="762120"/>
            <a:ext cx="4789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aintain Commitment and Obligation Records/Review Detail Expenditure Repor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760" y="1407960"/>
            <a:ext cx="66492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You are the budget clerk assigned to the Headquarters, 3d Brigade Armor, 77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ry, 54th Infantry Division (Mechanized), Fort Stewart, GA 31314.  You are responsibl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the obligation and commitment records; performing the weekly and joint Disbur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/Activity reconciliation, and review of unliquidated obligations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are responsibl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C A142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000" y="270360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3160800"/>
            <a:ext cx="71002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5-26 to your FCR. Use date of request as Today’s 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01 to 10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nswer questions 1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30-49 to your FCR.  Today’s date is 20 Oct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20 to 10 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view the NSFOP listing and make any adjustments as necessary to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nswer questions 8-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8600" y="9596520"/>
            <a:ext cx="648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I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7T13:59:44Z</dcterms:created>
  <dc:creator>SFL</dc:creator>
  <dc:description/>
  <dc:language>en-US</dc:language>
  <cp:lastModifiedBy>Administrator</cp:lastModifiedBy>
  <cp:lastPrinted>2001-10-02T20:32:23Z</cp:lastPrinted>
  <dcterms:modified xsi:type="dcterms:W3CDTF">2005-03-23T21:27:20Z</dcterms:modified>
  <cp:revision>18</cp:revision>
  <dc:subject/>
  <dc:title>No Slide Title</dc:title>
</cp:coreProperties>
</file>